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43044"/>
        <c:axId val="12192014"/>
      </c:barChart>
      <c:catAx>
        <c:axId val="20943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2014"/>
        <c:crosses val="autoZero"/>
        <c:auto val="1"/>
        <c:lblAlgn val="ctr"/>
        <c:lblOffset val="100"/>
        <c:noMultiLvlLbl val="0"/>
      </c:catAx>
      <c:valAx>
        <c:axId val="1219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3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937-40A9-46F0-8EA0-C743FCC2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640-F8FA-42AF-8C67-CC87B2C1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024-F1CB-4712-B11B-D2D99AA3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CEA-C95D-43E1-B4C9-BD596C0F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63A-71B4-48CE-8BF4-08B3610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BA6-8A55-48C3-843D-71B499A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D48-C1DB-4495-9553-98D3E0A7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396-40EF-4554-9CE0-54B456D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308-BAFA-4260-AC62-16395C7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F07-13CC-439D-B9D1-D4583C4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49-4301-4957-B159-11E074B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FF1-A578-4F82-9238-7B966B9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91FD4-9577-4CCA-AAFC-C37EB6F2B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