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242455"/>
        <c:axId val="31277270"/>
      </c:barChart>
      <c:catAx>
        <c:axId val="472424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277270"/>
        <c:crosses val="autoZero"/>
        <c:auto val="1"/>
        <c:lblAlgn val="ctr"/>
        <c:lblOffset val="100"/>
        <c:noMultiLvlLbl val="0"/>
      </c:catAx>
      <c:valAx>
        <c:axId val="312772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2424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FC9D-3176-4974-B769-7115C35C6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8397-0B15-4434-9096-90061DA01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2B7E-A743-4B01-BD4A-C8D92CB43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9811-CACF-4C5E-8CF5-7402ACD09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6F96-4008-45EA-BE5E-6C2FEDABA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217B-D911-45C0-827E-8715ED9F6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E661-637B-4865-B58C-AFE4DD6DD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6B57-59DC-454B-846C-44BF4A2E0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235E-A47E-4F5A-8BB0-591D0801F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3458-7AFA-4ABD-8A98-A81C2D1FD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8D65-6882-4142-9B00-5282E5235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ADD6-D18F-472E-B147-3039784B3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67DFED-0F20-43C0-BC2D-A791CF33701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