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89677"/>
        <c:axId val="63671410"/>
      </c:barChart>
      <c:catAx>
        <c:axId val="74589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71410"/>
        <c:crosses val="autoZero"/>
        <c:auto val="1"/>
        <c:lblAlgn val="ctr"/>
        <c:lblOffset val="100"/>
        <c:noMultiLvlLbl val="0"/>
      </c:catAx>
      <c:valAx>
        <c:axId val="63671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9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ED0-D6EB-4E3B-90A2-D9C61BA3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4C0-DB29-4A82-9108-834444FE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E17-3B8E-454D-A10E-3AF54159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092-E71C-42ED-91AC-A162613C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C38-4814-42D4-B03B-C81EB23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11B-056B-4EB9-8CF9-B9D512B6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427-5ED8-4B23-9947-90E72BD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C02-0E67-4F73-983F-72C79E6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7B3-5574-42C7-BED1-D2DCA3F0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4FA-CCF1-4EED-9CF0-CEABB7E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1F5-6F9F-4698-AB92-806A75D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B0A-9CDE-4B5D-A22A-A02ECA6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D7057-2D5A-4A5E-9A81-D6D0FDECE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