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316369"/>
        <c:axId val="10145406"/>
      </c:barChart>
      <c:catAx>
        <c:axId val="433163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145406"/>
        <c:crosses val="autoZero"/>
        <c:auto val="1"/>
        <c:lblAlgn val="ctr"/>
        <c:lblOffset val="100"/>
        <c:noMultiLvlLbl val="0"/>
      </c:catAx>
      <c:valAx>
        <c:axId val="101454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3163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84042-F396-47E3-A99C-E5D2FB4D0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1A30-DA09-40C5-BAA5-90DF10BC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054D-E48C-4790-BF42-6CD90C091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315E-6F50-495E-B0C7-7AF8F37E2B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0C24-F222-430E-AE99-DE81B1A56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99269-742E-4945-B7AC-C31C5409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BB89-3E59-475E-9199-79CEA8B3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1D12-6568-4BF2-87CF-E48DBCA3F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C7E3A-91ED-4E97-8EC4-3C7B290C0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F0EA7-47E9-4086-BA9C-553076FFE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C487-6314-4226-878B-0DB32DF0F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49404-E886-4E65-9008-62F50584D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8A27DE-8816-46C4-A708-9E3D7EDAC7E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