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963404"/>
        <c:axId val="12879546"/>
      </c:barChart>
      <c:catAx>
        <c:axId val="4996340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879546"/>
        <c:crosses val="autoZero"/>
        <c:auto val="1"/>
        <c:lblAlgn val="ctr"/>
        <c:lblOffset val="100"/>
        <c:noMultiLvlLbl val="0"/>
      </c:catAx>
      <c:valAx>
        <c:axId val="128795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96340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4FBD-94ED-4208-9EC8-CAD3E4BAA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5D293-E2F1-4C15-BA19-6F9699162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C5AA9-E4AA-41A1-9202-415490E71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C5050-4C82-4B66-8F40-1B24E6D05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4CD03-174D-4582-8CBA-D708FD229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4F415-7610-4644-82F2-72B2191D8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25EB-421C-4A44-A2C1-F7446FA8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7E5A1-662B-45FA-920B-CC477CF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766-1309-4ECE-8C5A-E3251091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014B-70E3-4813-A65C-BAA6C224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C404-D590-478B-9F78-FEB50D06B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F41C-8663-4ADF-A3DA-B36E8C465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67BFCF-3677-4F63-B532-E9192270915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