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5521820"/>
        <c:axId val="587722"/>
      </c:barChart>
      <c:catAx>
        <c:axId val="5552182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7722"/>
        <c:crosses val="autoZero"/>
        <c:auto val="1"/>
        <c:lblAlgn val="ctr"/>
        <c:lblOffset val="100"/>
        <c:noMultiLvlLbl val="0"/>
      </c:catAx>
      <c:valAx>
        <c:axId val="58772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52182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5C3D1-A42F-4205-B9D1-88178EB40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C2A20-6579-42E3-984A-20C84A90A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1378A-5C3D-4295-B874-0ADD57A5B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908F4-A054-4760-80FD-94510396B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6CF49-255F-44BC-8DC8-E58E93B2A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07545-4A39-4A21-A46D-EAD571003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6BDC5-1D03-462C-935E-89461F50A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114EC-CD9B-420B-BF7A-4E13EC67F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23FF1-0A67-4ECC-AA41-8B0881A30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6A1F2-8467-4A81-9A0C-21D227698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3FC70-A069-4AD8-8FC6-B41D07CA3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10327-2698-4200-9299-5E38D6A7F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BF5F5B-7DAB-48AC-9CB0-03F13628D0F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