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63367"/>
        <c:axId val="87489775"/>
      </c:barChart>
      <c:catAx>
        <c:axId val="99863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89775"/>
        <c:crosses val="autoZero"/>
        <c:auto val="1"/>
        <c:lblAlgn val="ctr"/>
        <c:lblOffset val="100"/>
        <c:noMultiLvlLbl val="0"/>
      </c:catAx>
      <c:valAx>
        <c:axId val="87489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63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9C4-BAC8-446F-9E9F-1594530D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74E-A81A-47C4-8EAE-239535F1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CF2-1AFC-4D6B-A6A5-EC9D6D09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B87-0E05-4049-AA68-EBA34E0C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E50-DD0E-4571-8C94-10BD1A5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15E-B28E-4D85-8C67-33CE469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C04-40F6-4E2E-A74E-9F7086A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7DB-0F2E-4899-AD2E-1B32D450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EE8-5E95-4DA1-855A-1C71E13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132-BC4C-4CE0-8305-824B87A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D21-CE26-4917-BF7C-E17C939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129-A840-4DCD-9F23-881F599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A5273-D382-4FA9-B14C-E9E06C6BB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