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00380"/>
        <c:axId val="4048342"/>
      </c:barChart>
      <c:catAx>
        <c:axId val="173003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8342"/>
        <c:crosses val="autoZero"/>
        <c:auto val="1"/>
        <c:lblAlgn val="ctr"/>
        <c:lblOffset val="100"/>
        <c:noMultiLvlLbl val="0"/>
      </c:catAx>
      <c:valAx>
        <c:axId val="40483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003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87BE-5B95-4E57-80CB-099AA5B41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5D14-21DA-4EFB-8B84-88F17096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BB5E-E734-4BED-BEFC-B7DA47E9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4771-52C3-4EBC-B055-9154E338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A0D4-020D-40D0-97C3-1AEA0559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A05F-1B02-44DC-884D-532E3482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C06D-67C8-4AD9-8BF8-11F24699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E8C1-2DA8-40DD-8E55-87805A43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4C1-8D91-45E5-884C-AB35FCEE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1D15-2C54-4BE0-8CB7-B2BFA88F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5952-8FCA-4D1E-BAE0-B1CE2AAA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5F7C-D947-42EA-8879-CD0E6FF9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21C50-5C1A-4D4F-AD01-F14EA97AE3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