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66577"/>
        <c:axId val="24788277"/>
      </c:barChart>
      <c:catAx>
        <c:axId val="24166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88277"/>
        <c:crosses val="autoZero"/>
        <c:auto val="1"/>
        <c:lblAlgn val="ctr"/>
        <c:lblOffset val="100"/>
        <c:noMultiLvlLbl val="0"/>
      </c:catAx>
      <c:valAx>
        <c:axId val="24788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66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A10-5AEC-4A7E-B350-A45A3E73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6E2-9CFD-485D-9174-531730A5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2C5C-E872-4D8D-A6A7-BC2430E2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401-3674-48C8-AB48-401FD500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F6C-E5AF-4482-8F15-2E652C7E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1A6-9FA4-4FB1-8495-7253F12E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A2A-C31D-4BFF-90A9-E79E3E49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6EA-FF67-4E24-AFC1-5EF49B23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409-89EE-4027-A2C9-BD2B2E83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86A-6C97-479C-9A57-B6EF7268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B77-D8C2-4281-8846-A2795258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1D7-6C98-43A3-8338-0C530795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89334-0CE9-437D-B0ED-AB80B057A2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