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0860520"/>
        <c:axId val="30778252"/>
      </c:barChart>
      <c:catAx>
        <c:axId val="9086052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778252"/>
        <c:crosses val="autoZero"/>
        <c:auto val="1"/>
        <c:lblAlgn val="ctr"/>
        <c:lblOffset val="100"/>
        <c:noMultiLvlLbl val="0"/>
      </c:catAx>
      <c:valAx>
        <c:axId val="3077825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86052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3B12-AC1B-4401-9E89-D031B817E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C2F0-5ADF-4D55-821F-7E241AD2F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9D6D-D13B-4AA3-BC76-B227C8BD9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CF53-10CE-4983-92F5-73B33EAA4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A333-B87A-4E05-AEDB-8B1B78C2A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7FB9-7E48-4B68-A16F-1F54B7B61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D765-E530-44FC-B365-BAE83B11E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0228-EFE4-4D80-9772-279B4FCD3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2CC7-3175-41B2-A4B3-4DB3139A2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8950-C09C-4DFF-BD36-ECED5151A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1C43-1480-4684-A573-9EBE23EA7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E3F8-D79A-4217-A83E-574E5C33F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B6D4FD-99FB-497A-9B4A-C3043CBED5F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