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08701"/>
        <c:axId val="25230996"/>
      </c:barChart>
      <c:catAx>
        <c:axId val="27608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30996"/>
        <c:crosses val="autoZero"/>
        <c:auto val="1"/>
        <c:lblAlgn val="ctr"/>
        <c:lblOffset val="100"/>
        <c:noMultiLvlLbl val="0"/>
      </c:catAx>
      <c:valAx>
        <c:axId val="25230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8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F51-2FAD-4595-BD06-6BD83ACA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8E8-F2A5-4994-8DF6-F90B02CA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ABA-5E1B-4CD3-A553-1CE02E1E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064-85EB-442A-8937-560FDBF6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595-9EB9-426F-BC15-E10F997A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3AE-676B-4AFA-ACAB-5BAA3378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4E3-0333-4EE9-8732-595E37E9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734-C758-44FB-BED2-41B4F3B0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777-1542-4E06-A3DE-F052C311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248-5378-465C-BF1C-D7F36D1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E23-0AFE-4D88-91F5-34C5554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019-BB98-48FB-A6EA-723DAD8E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1FB2-2097-4AF7-AF11-88B0AEEC7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