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60450"/>
        <c:axId val="80312518"/>
      </c:barChart>
      <c:catAx>
        <c:axId val="37560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12518"/>
        <c:crosses val="autoZero"/>
        <c:auto val="1"/>
        <c:lblAlgn val="ctr"/>
        <c:lblOffset val="100"/>
        <c:noMultiLvlLbl val="0"/>
      </c:catAx>
      <c:valAx>
        <c:axId val="80312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60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6E9-7651-482F-A792-C4DBDB97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5D2-76D4-4639-BF43-814E3997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426-74FB-4B71-95AB-2BF29C81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184-A7AB-4A91-B4B1-984238B5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D9E-CABC-49F6-89A1-22112AAC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1AA-8D81-4191-B100-ED6ECF99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E05-D978-4DC5-987D-98D36AE8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855-671B-4FBA-9B8F-EBD51A55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6BC-45F9-4C5F-9C0A-AD462E2D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443-5002-48F7-A869-A716F323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55D-A0B4-4763-BC94-A6FBBB00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9F4-9031-4114-B448-2E2775BC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A663F-E731-442C-B62B-718B8516F9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