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42672"/>
        <c:axId val="84195706"/>
      </c:barChart>
      <c:catAx>
        <c:axId val="51642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95706"/>
        <c:crosses val="autoZero"/>
        <c:auto val="1"/>
        <c:lblAlgn val="ctr"/>
        <c:lblOffset val="100"/>
        <c:noMultiLvlLbl val="0"/>
      </c:catAx>
      <c:valAx>
        <c:axId val="84195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42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993-033D-4F3F-A517-3FAA187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9CA-A8EC-480E-9C42-9FBD3B03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4ED-EB14-4597-B4E9-40057348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ABA-B66E-4A32-ACFA-4FE7D277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023-E00C-4F7A-A7B3-46DE74C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8D1-553E-48B5-8E25-D52C6D7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DF4-0A43-419B-8B1F-E59FA88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66D-B347-48C5-9F15-282C2C65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48A-2F01-4727-86DB-1BE464F8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CAE-68E0-415E-B17F-897CECD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9A5-D0ED-4424-949B-17F8DB4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D29-34F3-41C1-9580-A040DDB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7F26-7D7F-4F41-BF4D-28586025B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