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42687"/>
        <c:axId val="98966044"/>
      </c:barChart>
      <c:catAx>
        <c:axId val="75342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66044"/>
        <c:crosses val="autoZero"/>
        <c:auto val="1"/>
        <c:lblAlgn val="ctr"/>
        <c:lblOffset val="100"/>
        <c:noMultiLvlLbl val="0"/>
      </c:catAx>
      <c:valAx>
        <c:axId val="98966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42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984-8877-4098-8704-218969D4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451-76B4-4975-8CA2-151902D6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4CA-8A1C-4BFD-B33F-2D860A6E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F38-EC5D-4CC3-BD6A-F5E8386E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18D-1AB5-4058-901F-313ABE9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067-8E22-4B75-A0E9-EAAAF64E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C56-0228-4CCF-864F-98C96EE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809-F868-448B-8D1B-019823D2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158-E24A-411B-9B87-4486E1E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BAE-82FD-4DFE-B1C7-3D140BE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F3E-5348-4C25-A754-F0B23238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34E-0F10-4CB5-AB36-16ADF93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B2581-D93E-4A42-93DB-77577B508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