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66866"/>
        <c:axId val="49304399"/>
      </c:barChart>
      <c:catAx>
        <c:axId val="70466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4399"/>
        <c:crosses val="autoZero"/>
        <c:auto val="1"/>
        <c:lblAlgn val="ctr"/>
        <c:lblOffset val="100"/>
        <c:noMultiLvlLbl val="0"/>
      </c:catAx>
      <c:valAx>
        <c:axId val="49304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66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52E-8EEA-4DD3-9532-AC68577D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D56-C748-4438-A1D9-B9AD143E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E61-B62A-4562-8990-FC435A1E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A73-D0B7-46EC-BE97-A69150C2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001-1143-43CA-A073-AB760A8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F09-91D2-4A55-B98F-807C9B8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DF8-73EE-4B28-A471-E8779281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68B-8B86-4665-82D4-78D9CC44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82C-9570-4BDC-B1E6-246BF7A1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BEA-5F41-40A4-A077-7E6EF1B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EFA-C567-42D1-8547-C7B5B26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B07-F5A6-4B86-B0A2-41D668B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10D75-878C-4B76-B696-1F021988E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