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90981"/>
        <c:axId val="98821475"/>
      </c:barChart>
      <c:catAx>
        <c:axId val="66090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21475"/>
        <c:crosses val="autoZero"/>
        <c:auto val="1"/>
        <c:lblAlgn val="ctr"/>
        <c:lblOffset val="100"/>
        <c:noMultiLvlLbl val="0"/>
      </c:catAx>
      <c:valAx>
        <c:axId val="988214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90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917E-BA21-46C8-B489-4AF61147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9727-EA4E-417A-B408-9B320D8B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5C06-B841-4AE2-97FB-4642D117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21CA-A82A-431C-9914-44E09801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75DB-4A36-4847-9075-13C02EA7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432-AD28-42E6-8885-9D39890D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4034-938C-4B99-A70C-D4E0F02F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2DE-6A33-4752-999A-F7421460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988-98F6-4311-AE67-C424A643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884-7B3B-41E5-A6C1-5494D6E8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D206-24D2-48F1-B32B-62C3E6E9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4109-F9FD-40CA-B68E-053D3F49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52992-941A-40AF-B5C0-12E9529565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