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105741"/>
        <c:axId val="62813201"/>
      </c:barChart>
      <c:catAx>
        <c:axId val="30105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13201"/>
        <c:crosses val="autoZero"/>
        <c:auto val="1"/>
        <c:lblAlgn val="ctr"/>
        <c:lblOffset val="100"/>
        <c:noMultiLvlLbl val="0"/>
      </c:catAx>
      <c:valAx>
        <c:axId val="62813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05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EFC-F964-4460-A5E7-9CD53A47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68E-D618-476D-AFC2-A82738BC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FD31-FAC3-4A34-9DA4-526F6BAB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E84-4336-4EF1-8F56-E8651FC5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261-4041-4C7F-8177-968D21E4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3B6-9CF0-4763-B61D-872C8618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494-EFEC-4F96-BA12-46BF6D9C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E573-D660-4BE2-AE06-4B94749F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AB67-417C-4BE4-B208-C9C9A4FE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385-8D6E-4F7B-A564-F6786790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0F6-9CEB-4135-A8D3-A7D668DC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4BB-DBC0-4609-A463-334FA252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D2754-AFBC-4B0D-A3E3-FA66CB508E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