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04079"/>
        <c:axId val="26197788"/>
      </c:barChart>
      <c:catAx>
        <c:axId val="31304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97788"/>
        <c:crosses val="autoZero"/>
        <c:auto val="1"/>
        <c:lblAlgn val="ctr"/>
        <c:lblOffset val="100"/>
        <c:noMultiLvlLbl val="0"/>
      </c:catAx>
      <c:valAx>
        <c:axId val="2619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04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A40-43B4-4139-8708-3F7DB2B7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C00-2C3E-4EE8-AA1C-A83D25D6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EB0-A9BD-4598-BCA0-AD7D73EB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109-3864-4390-8926-A8911812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8EF-770E-4B6B-8AC4-CE5A0F18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C72-E42B-4532-9852-FE16554D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761-8A31-4E4C-8BFB-9D42866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F5B-8037-452D-9F06-7404F39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0B7-D5EE-48BE-BB90-508FEA68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4DC-AE29-4135-A886-CDB80BEE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47C-E397-4205-9BBE-9E3871B4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AFE-EF75-4A30-BC48-18F6946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E207-DF68-48B0-A7C5-49AA5A101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