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374836"/>
        <c:axId val="16201749"/>
      </c:barChart>
      <c:catAx>
        <c:axId val="273748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201749"/>
        <c:crosses val="autoZero"/>
        <c:auto val="1"/>
        <c:lblAlgn val="ctr"/>
        <c:lblOffset val="100"/>
        <c:noMultiLvlLbl val="0"/>
      </c:catAx>
      <c:valAx>
        <c:axId val="162017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3748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0011-F707-4F75-8803-B4AC97E5A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E95C-92DB-4E42-8BD5-187333F45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8598-0767-4878-BF0D-E31D63876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9B34-6EC9-47BC-A024-04F05E893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192E-F0E2-4E6F-9256-C5994345B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D3AC-86A6-4731-8EF4-E2B5F7DEA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447B-4E90-4B91-96FD-EA7DE87A8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8AFF-E625-423E-92C2-899FA60D0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6546-EC02-476E-808A-588492DA7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6FA5-0308-4FBE-9869-A584834A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B1CC-D1EE-4AF4-A5EE-1EA96110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B017-6DE5-4B30-8F60-B5BD3DF7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4D5A34-8F0D-406C-A309-5B4763A1330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