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75011"/>
        <c:axId val="94387813"/>
      </c:barChart>
      <c:catAx>
        <c:axId val="32275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87813"/>
        <c:crosses val="autoZero"/>
        <c:auto val="1"/>
        <c:lblAlgn val="ctr"/>
        <c:lblOffset val="100"/>
        <c:noMultiLvlLbl val="0"/>
      </c:catAx>
      <c:valAx>
        <c:axId val="94387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75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6A8-5D09-43A3-BFBC-FC2DEAFD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897-CDE7-4F21-A4DA-85C1D453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483-1140-40F5-A021-FBF668A1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1B0-8CFA-4ABA-8B68-5C820DE2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180-1E72-45D4-BE79-9687C89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542-2722-42FD-9E3B-FAF7728D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420-0B8E-4A8B-B568-FBB7230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10E-4E7A-433C-B610-7C580651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C85-A55F-4CFA-9D5D-5774F5AE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B26-E2A4-4FBE-9EF8-E1A9D84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0C2-27E3-40EC-B76E-E475F27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5E0-5212-4B99-BF4D-B9481D08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7B8F-ADEC-45D3-B3DA-F40FA1877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