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724804"/>
        <c:axId val="51220786"/>
      </c:barChart>
      <c:catAx>
        <c:axId val="447248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20786"/>
        <c:crosses val="autoZero"/>
        <c:auto val="1"/>
        <c:lblAlgn val="ctr"/>
        <c:lblOffset val="100"/>
        <c:noMultiLvlLbl val="0"/>
      </c:catAx>
      <c:valAx>
        <c:axId val="512207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248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71E4-1195-4521-ACCB-9A86CBDF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DA97-EFEC-45FC-B60E-220C51EA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1E47-060F-4CB6-9CDA-5F9E0A27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AF00-7C07-488C-9709-E199B4DA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6455-DECF-4DB4-850D-155D30CC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F0D4-4EB0-4530-8515-BD91899D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D605-0F99-4C02-A2C5-59CBA3A8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01F9-D647-4BB9-A211-283E206C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D55B-9ADA-41A4-BCB6-DD91A772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96D3-3D2B-4286-AE91-822C8A2F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8244-314E-4C90-B041-059EB7CD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724A-FFA4-47FE-B495-A1509777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2E9C0-325F-4B12-AC4B-08968B3C99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