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4902"/>
        <c:axId val="58199755"/>
      </c:barChart>
      <c:catAx>
        <c:axId val="2034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9755"/>
        <c:crosses val="autoZero"/>
        <c:auto val="1"/>
        <c:lblAlgn val="ctr"/>
        <c:lblOffset val="100"/>
        <c:noMultiLvlLbl val="0"/>
      </c:catAx>
      <c:valAx>
        <c:axId val="58199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4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762-B78C-4A45-ABFA-1D77B33F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46F-821C-46DE-AC68-589D70CE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208-DF14-4312-AD9A-CA23E5B4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B32-AA3E-4A4B-B05E-21D20E9E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984-CF59-4C8A-AFA5-0DCEB93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E46-F9E0-44D2-BF58-3C8FBF27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BD0-C2A3-4094-B6BF-8E12778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135-6070-4917-912D-BD46FEB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4DC-604E-40CE-A55B-707EE620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B6B-6190-47A8-8BA2-9805A12C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982-9DCA-415D-9571-3F49E63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4BE-9113-4697-9F54-2DC446C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A7DD4-C97D-482F-84BF-6845721E52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