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132057"/>
        <c:axId val="54082464"/>
      </c:barChart>
      <c:catAx>
        <c:axId val="201320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82464"/>
        <c:crosses val="autoZero"/>
        <c:auto val="1"/>
        <c:lblAlgn val="ctr"/>
        <c:lblOffset val="100"/>
        <c:noMultiLvlLbl val="0"/>
      </c:catAx>
      <c:valAx>
        <c:axId val="540824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320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7AEE-7BB4-4D45-9590-C6955EB13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516D-FEB3-4FED-82A0-B26F3741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A505-CE31-4984-98B4-D6CFD1E72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C76A-6B94-40A2-9530-6DC22F60D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324F-72A7-4D0D-9DA2-6C928801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45AC-B2E4-4270-BA00-E3E2551B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325A-CA36-4C48-951A-CA69F684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F0E1-7612-45DC-A0A5-F2840DE0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769B-0544-4D36-8024-85252B1E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2700-33DD-4A6E-BCED-86F7E964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F7A3-9100-4007-9A9B-E8B2674B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D118-28A7-4A81-B269-FDDEC597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6FD04-98B5-40BB-8514-6071CC50A9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