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97909"/>
        <c:axId val="29727219"/>
      </c:barChart>
      <c:catAx>
        <c:axId val="59697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27219"/>
        <c:crosses val="autoZero"/>
        <c:auto val="1"/>
        <c:lblAlgn val="ctr"/>
        <c:lblOffset val="100"/>
        <c:noMultiLvlLbl val="0"/>
      </c:catAx>
      <c:valAx>
        <c:axId val="29727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97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697-6B01-409F-8DD5-32FA62B8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096-6F18-4139-BAF1-85A3D75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6B0-FC6F-4181-8B74-4003E06D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C94C-8543-44B2-9402-E4A4107E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A6B-80E2-4451-8D2B-8F7B5556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D9B-E113-4E57-8C76-C17423F7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F2B6-D81C-446F-B8B5-9EEEB0CE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D99-1FBD-4F9D-92DD-CCAEFA9B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ECC3-132E-4803-95C4-4E3F3B83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025-47F9-4117-A37A-3963FD81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9491-F846-4001-8FC8-8FACF3BA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22FD-1F0B-403B-9586-E33AB6FB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11ACF-6777-4A95-9A71-B526E0D247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