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16230"/>
        <c:axId val="40415144"/>
      </c:barChart>
      <c:catAx>
        <c:axId val="45616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15144"/>
        <c:crosses val="autoZero"/>
        <c:auto val="1"/>
        <c:lblAlgn val="ctr"/>
        <c:lblOffset val="100"/>
        <c:noMultiLvlLbl val="0"/>
      </c:catAx>
      <c:valAx>
        <c:axId val="40415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16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5E3-6909-4D37-A3ED-19E6A6C3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861-579B-451E-8806-9E06968C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F57-49BD-4AAD-B19F-93450905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A16-7E43-47E3-9C3C-4D46221F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11F-F7A4-4AAC-967D-DB68AE24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C38-2A97-4B1A-B97B-E07178C8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C7F-6790-4F06-B961-7B9B9C53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CAE-3B39-4097-8865-ECACBA47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FF9-F33F-481A-8313-C2AA1663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0E5-8E02-43AE-9A13-F4AC0BEE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AD4-A790-4BDA-BA5B-1491DFD2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A24-7EC9-4809-AE6E-37A84508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CB0D8-2AA2-4D18-9033-06E9E769AA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