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49987"/>
        <c:axId val="16314611"/>
      </c:barChart>
      <c:catAx>
        <c:axId val="45249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14611"/>
        <c:crosses val="autoZero"/>
        <c:auto val="1"/>
        <c:lblAlgn val="ctr"/>
        <c:lblOffset val="100"/>
        <c:noMultiLvlLbl val="0"/>
      </c:catAx>
      <c:valAx>
        <c:axId val="1631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49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400-9855-44DE-A99B-150361ED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A9E-B06D-43EF-B968-8D79378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1B6-F5D2-471C-ADDF-93546713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8E17-AAB5-4493-944A-3482BF1A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43CD-9A49-4AE0-A43A-DEFF5E97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28A-21B3-47D5-B64F-8CDC888F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E17-F35D-403D-9637-D409E1BC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207-1ACA-4912-BDF8-B4EB3DFD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867-96FB-40F3-97DD-046095CA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1B6-E6D0-424F-BB02-83EC593F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FBD-787E-4DE0-BA39-2C41176D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D78-D7F6-4186-997D-0DA86416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D4E43-6ADB-445E-B6C4-E719284FD9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