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549020"/>
        <c:axId val="93828826"/>
      </c:barChart>
      <c:catAx>
        <c:axId val="345490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828826"/>
        <c:crosses val="autoZero"/>
        <c:auto val="1"/>
        <c:lblAlgn val="ctr"/>
        <c:lblOffset val="100"/>
        <c:noMultiLvlLbl val="0"/>
      </c:catAx>
      <c:valAx>
        <c:axId val="938288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5490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6CB1-5101-4C12-A0B2-8199CC68A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D281-BDB9-45C5-9DE2-10344D1E8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A9E8-D8F9-4FF0-9B26-36A5AE399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A2D3-F53B-4D55-90B0-C06163ECB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EAD6-291E-4486-9E26-0CBB6820E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50EF-ABD6-422B-A8B6-5C6744E9E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2D22-4DAE-4A0B-87D4-2BD7F0ACA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E177-849E-49EF-9353-6C018AF0B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E624-84D5-4BB8-88A1-ED4EB2DE1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85D2-B787-4CE0-B854-B8C35BCE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A75D-F1F8-4DBE-86B3-12E361BB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7623-7959-4883-AEFE-E1FACD53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9850F0-2310-4662-A199-FDEAFA6F767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