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44948"/>
        <c:axId val="97122406"/>
      </c:barChart>
      <c:catAx>
        <c:axId val="64944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22406"/>
        <c:crosses val="autoZero"/>
        <c:auto val="1"/>
        <c:lblAlgn val="ctr"/>
        <c:lblOffset val="100"/>
        <c:noMultiLvlLbl val="0"/>
      </c:catAx>
      <c:valAx>
        <c:axId val="97122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44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549-95CB-4BE5-BAFB-9E6F6430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60D-031B-4743-B467-B8C1DBB7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0BC-1720-4132-B789-5B49DFB0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C1C-DB2E-46B3-AF22-A941A158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7B2-E2BA-4311-9C22-6AAEC45B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EC8-8E5A-45E5-88DD-9A84500C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955-173B-48AC-B08B-0D879969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EE8-C7BC-4BAD-B922-3B6924E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C48-D41E-4306-9A07-13896E7B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F38-A4AF-4271-943D-169D6D63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C29-8A19-4867-A162-B51EEC73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B13-43AA-4FEE-B645-9A8FB0C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B8650-B8F3-4F9C-A7E7-E3AE3C6AC1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