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22215"/>
        <c:axId val="79521380"/>
      </c:barChart>
      <c:catAx>
        <c:axId val="52722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21380"/>
        <c:crosses val="autoZero"/>
        <c:auto val="1"/>
        <c:lblAlgn val="ctr"/>
        <c:lblOffset val="100"/>
        <c:noMultiLvlLbl val="0"/>
      </c:catAx>
      <c:valAx>
        <c:axId val="79521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22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F28-2006-4503-B314-94E48962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AE7-23D8-4675-A2A8-5E196A5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D8F-21BE-4D1C-B430-6ADE419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805-5EE4-403B-AF49-B17EA18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B60-44A9-4F70-A4AD-22FE940B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A2E-2774-4CBD-B155-6B7810CF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FAF-6F98-4751-9D42-D4701E0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A6F-7B03-441F-B04E-D67289F9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63A-D19E-4E61-8B1B-21A5CAF9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4B4-8561-4CDC-828D-0B2907C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A07-B225-44D5-8FE5-D2A8CFC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D52-64D1-40EA-B6A5-16D7203D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4483B-C3A5-4EC0-A581-9FEC6F39F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