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34867"/>
        <c:axId val="1862576"/>
      </c:barChart>
      <c:catAx>
        <c:axId val="99534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576"/>
        <c:crosses val="autoZero"/>
        <c:auto val="1"/>
        <c:lblAlgn val="ctr"/>
        <c:lblOffset val="100"/>
        <c:noMultiLvlLbl val="0"/>
      </c:catAx>
      <c:valAx>
        <c:axId val="1862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34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576-6EF5-4645-BD17-382AD0B3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626-3962-46E5-83C9-2176C441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AA2-6734-4529-B8B2-B85FE7F9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9E7-FBA3-4185-A97F-2503A98E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C82-1AEB-4225-9A03-F8A6D96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6B3-512F-4180-8BFE-A24B3C33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B7B-0DC9-45A0-851A-523BF00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4FA-33A3-42DA-9733-6299F84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D49-26D7-470F-87A5-6F888A5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B22-CC9F-4DB2-9F0D-22FC533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B38-F2C8-4BD9-9593-2581925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8B8-6173-46EC-8E8C-7452702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9D9AC-B93B-46CF-A6D2-978BDFF78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