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44149"/>
        <c:axId val="18759534"/>
      </c:barChart>
      <c:catAx>
        <c:axId val="78344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59534"/>
        <c:crosses val="autoZero"/>
        <c:auto val="1"/>
        <c:lblAlgn val="ctr"/>
        <c:lblOffset val="100"/>
        <c:noMultiLvlLbl val="0"/>
      </c:catAx>
      <c:valAx>
        <c:axId val="18759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44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6FE-28D9-4E66-A131-65070CFD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079-E3F4-43F8-8834-80986F58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532-A668-42A9-97D1-5B38FB10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0F6-0D6D-46B3-B506-6079F512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E4E-CB1E-471D-BBB5-A869937D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7F9-8BBA-4440-A364-F327C1EE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54E-C2B0-453D-8DA8-98262AFF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97B-76EA-4016-AC16-A7E122D8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89A-2CA0-45D7-9898-8637FB7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D5E-2A42-4D44-AE50-01474489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39E-6D2D-43F1-A7C4-F6B3AB50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967-2E05-4CBA-968A-551127CC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EBA5A-B22E-4BCF-B97B-2F0ACC7FB1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