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02771"/>
        <c:axId val="8063043"/>
      </c:barChart>
      <c:catAx>
        <c:axId val="97802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3043"/>
        <c:crosses val="autoZero"/>
        <c:auto val="1"/>
        <c:lblAlgn val="ctr"/>
        <c:lblOffset val="100"/>
        <c:noMultiLvlLbl val="0"/>
      </c:catAx>
      <c:valAx>
        <c:axId val="8063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2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016-FB17-4828-B07F-EB74ED4B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01C-09EB-492C-896E-3E4E72FF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620-FF88-42EC-8446-D007D089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7BD-5465-41E7-8CA0-2F142145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0F9-2B1D-47F7-87FC-9752A2F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9B4-ACBF-42F9-81AA-5D50EB2F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B92-64BD-43FD-8194-72A0485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AE2-F845-4286-A5BB-B77FC496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F2C-C409-493E-A856-8C8D87F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616-E66B-469C-8D46-5C2A574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9F3-6024-43F8-8A98-A71955F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DB7-3918-4C95-BD1B-3EECC80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887C5-02E2-4EE6-8F35-BF9FC502D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