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2162"/>
        <c:axId val="99803121"/>
      </c:barChart>
      <c:catAx>
        <c:axId val="27021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03121"/>
        <c:crosses val="autoZero"/>
        <c:auto val="1"/>
        <c:lblAlgn val="ctr"/>
        <c:lblOffset val="100"/>
        <c:noMultiLvlLbl val="0"/>
      </c:catAx>
      <c:valAx>
        <c:axId val="998031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21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382-ECC1-4B55-84BD-A111EED6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AD7-BEC8-4628-B8B1-B08BC590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128-B731-4FD6-94FB-0733F03D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A07-67D3-4F73-B5EE-12C3F2A8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B15D-9CC5-440E-BA67-A433A4E7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CF6-2163-40CF-9DF9-32FB0DA4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B28-A3FE-49E7-B04A-42AEBC28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FB67-62B5-4F3F-A3FC-B6A5B8E5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98D-A91A-4283-86A4-84BA4C70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DC89-BD39-4C8A-ACC4-F151424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9E8-6490-4C20-B61C-308D9D8A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C76-4E17-4A7C-84B6-F368582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A595C-FEF7-4BA3-B1DF-437D342C3F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