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05893"/>
        <c:axId val="72714315"/>
      </c:barChart>
      <c:catAx>
        <c:axId val="11305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14315"/>
        <c:crosses val="autoZero"/>
        <c:auto val="1"/>
        <c:lblAlgn val="ctr"/>
        <c:lblOffset val="100"/>
        <c:noMultiLvlLbl val="0"/>
      </c:catAx>
      <c:valAx>
        <c:axId val="72714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05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9FC-6386-4A69-A5CD-5122732B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116-C1ED-4F56-8456-BF576B21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9EF-BBAE-42EA-9E3D-7808FA4E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FDC-5ADA-4723-B6D9-A15696EC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2E6-798A-4F51-ABA2-2CD2FAC6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991-8B7F-4D79-9C59-3F4E3865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81C-5ECA-4391-B904-D56AABD3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6EBD-1C60-432A-A5C5-491832FF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7B0-10F4-406C-A771-7A5D05D4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DC3-39D0-42C9-B143-7E71AFF9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C65-EA8B-412E-8F33-609FEEA5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E7F0-822F-43D2-B2BE-5DF2C43D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35A6C-BD08-42D2-839E-6107E7B639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