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38848"/>
        <c:axId val="79479646"/>
      </c:barChart>
      <c:catAx>
        <c:axId val="63838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79646"/>
        <c:crosses val="autoZero"/>
        <c:auto val="1"/>
        <c:lblAlgn val="ctr"/>
        <c:lblOffset val="100"/>
        <c:noMultiLvlLbl val="0"/>
      </c:catAx>
      <c:valAx>
        <c:axId val="79479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38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9F4-9694-4DD8-B4E9-6705CD29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465-79B6-44C2-8FCF-AFA0481B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2F8-EE6B-4627-8E19-2DB6A5E4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857-4FAE-4BA9-A448-24720EF4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FB4-4450-4C20-892B-7ECD05A1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3A9-FAD3-41DB-9C03-163FD66B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BC7-F32F-40FD-8DB0-83428970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4BC-558A-4FFB-92B3-C4354960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A65-D6B5-4286-9658-31CFA11A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BC3-071C-4EBF-9A69-7136634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CA9-FA64-4DE8-BDEA-E2C942B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4BA-495C-4DD5-9014-2AB24288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510EB-DD13-4DE8-8C0C-81DA7DAF93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