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3893711"/>
        <c:axId val="41082860"/>
      </c:barChart>
      <c:catAx>
        <c:axId val="8389371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082860"/>
        <c:crosses val="autoZero"/>
        <c:auto val="1"/>
        <c:lblAlgn val="ctr"/>
        <c:lblOffset val="100"/>
        <c:noMultiLvlLbl val="0"/>
      </c:catAx>
      <c:valAx>
        <c:axId val="4108286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89371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C9C1-CF9C-489B-8AE9-D9724B084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3AA9-4AEB-4ECA-BFE7-250EB82C9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8C53-2CC9-4BDA-8F4B-C3D44C6B2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DB9A-0084-41BC-ACD8-9A9C5065F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D38B-812E-4B08-A060-2885017A6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1D3C-EEA4-4F57-8741-645172AC8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A1B8-CD32-4414-B36F-8A3ABC2A1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7C78-D76A-4BA8-809F-2DCFB1B27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6BD1-7936-431F-83E7-7407FE477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27A9-38EC-493F-8017-1C315EF10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70A3-8E77-40D5-895A-5AA92136D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2F61-826E-46B4-BE8C-679820028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942BCD-BFA3-4209-AD54-01A4C531A74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