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43233"/>
        <c:axId val="3539007"/>
      </c:barChart>
      <c:catAx>
        <c:axId val="98443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9007"/>
        <c:crosses val="autoZero"/>
        <c:auto val="1"/>
        <c:lblAlgn val="ctr"/>
        <c:lblOffset val="100"/>
        <c:noMultiLvlLbl val="0"/>
      </c:catAx>
      <c:valAx>
        <c:axId val="3539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3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8DD-0EAB-4F37-97DD-37F92F71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5C7-B4D8-48A6-A0FB-277A1344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15C-0A2E-439B-9943-9FB97865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18A-6C10-4235-8043-2A21D2DC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B30-4AA1-4418-A37F-C0569787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F01-87DB-447D-BF59-06A8A84F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ED6-1ED4-4435-B877-FC5CBB4E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38B-84F1-478A-A95A-30FBDF8F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C27-E4E5-463C-B35C-C8921146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928-4ECF-4BC7-846C-F0821B3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7E1-FFE4-441A-8556-73868297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9D8-506D-4E98-BDAC-087AB7C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3E8B4-C1B6-4323-8874-C2623DC4AB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