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7152"/>
        <c:axId val="78178570"/>
      </c:barChart>
      <c:catAx>
        <c:axId val="83871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78570"/>
        <c:crosses val="autoZero"/>
        <c:auto val="1"/>
        <c:lblAlgn val="ctr"/>
        <c:lblOffset val="100"/>
        <c:noMultiLvlLbl val="0"/>
      </c:catAx>
      <c:valAx>
        <c:axId val="78178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71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27D-2561-48DB-9651-C0AE7ED1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7C63-2639-4FBA-8E21-FA7B841C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0A3-DCAE-4592-8D3A-D1565A19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F128-3E0E-4935-9358-863A4519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82E-D106-4E22-B671-87E9BC37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965C-180B-45EB-82CF-6BDF5A21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FA32-12D9-4436-914A-3F663E48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063-370D-4E3F-BDF2-83BF72AF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A22-F528-415C-B184-32478F79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DAF5-AAE5-4A14-9733-FE1CB098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951-4CA8-4DAE-B9BC-D132A1B9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AF79-1026-4202-83A1-EDF88EEF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37A74-CC19-412B-A094-6E4DEF685C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