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94762"/>
        <c:axId val="73869381"/>
      </c:barChart>
      <c:catAx>
        <c:axId val="42894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69381"/>
        <c:crosses val="autoZero"/>
        <c:auto val="1"/>
        <c:lblAlgn val="ctr"/>
        <c:lblOffset val="100"/>
        <c:noMultiLvlLbl val="0"/>
      </c:catAx>
      <c:valAx>
        <c:axId val="73869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94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54D-9F74-4522-B678-FAEE998B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A5B-4412-439B-97D2-02841C36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C5C-F51F-4B95-975D-10B42A8C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DE3-18A7-4666-8B94-C546308E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6EE-7362-4ED7-8781-2F90C5C5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A86-0578-4424-8A70-B6C03068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98A-5006-404E-954C-5440F9D0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CBC-FD6A-4DAE-9E54-25F1F06C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92D-0E53-46DF-B0B2-2DA3DAE4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2F9-2229-4245-8506-68F47FA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5B0-88A6-4CC3-9E74-CDA802C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09A-D75F-4F55-83B8-88AF6903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D84EC-2C09-46AA-B2C5-46B025B14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