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39534"/>
        <c:axId val="96056309"/>
      </c:barChart>
      <c:catAx>
        <c:axId val="93139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56309"/>
        <c:crosses val="autoZero"/>
        <c:auto val="1"/>
        <c:lblAlgn val="ctr"/>
        <c:lblOffset val="100"/>
        <c:noMultiLvlLbl val="0"/>
      </c:catAx>
      <c:valAx>
        <c:axId val="96056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39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004-5B64-4062-8C1B-928B2AA4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F4F-2F38-438F-8D8B-95DD52D7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FD34-A284-4182-8773-BE5D0779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303-5605-4EA5-815E-A61136E0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896-417F-42FD-865D-ED246588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DFA-47B3-47D6-92BC-AB3907B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50F-BF03-4381-B81E-C8B8C88B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3DF-5595-4912-AAE7-B1F3B18A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AB84-CD4F-4F25-9700-008A8693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210-E340-4579-AEB0-173FDB13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14EC-FDC4-41FF-B6B5-71F8B59D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E9D-8736-4BA5-AA84-0B0FCDE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DE032-3382-42E2-898C-51F3122B17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