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397370"/>
        <c:axId val="34873972"/>
      </c:barChart>
      <c:catAx>
        <c:axId val="703973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73972"/>
        <c:crosses val="autoZero"/>
        <c:auto val="1"/>
        <c:lblAlgn val="ctr"/>
        <c:lblOffset val="100"/>
        <c:noMultiLvlLbl val="0"/>
      </c:catAx>
      <c:valAx>
        <c:axId val="348739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3973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CC09-DF59-4519-B9B6-53146610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07C4-9E2F-4433-99C8-F92D4B5D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4F5F-9691-449E-86BA-B823CCFB7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6C77-7970-4968-8DB0-C8B6DD65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2403-4D48-44BD-A265-E7B939DC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3684-33DB-414C-897B-CAB2BBE6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8115-744C-441A-9AB5-D9D7611F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53AE-E906-4B93-A345-DE1CB414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3CEF-C037-4867-8E0D-1F91B345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1832-2854-43C6-8A58-E573494A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251C-1805-4A6D-ADE7-A467F943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EAF6-8364-475C-A03B-4CD22801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AE750-F835-4688-B0D9-CEFA54A121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