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17852"/>
        <c:axId val="26349657"/>
      </c:barChart>
      <c:catAx>
        <c:axId val="43117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9657"/>
        <c:crosses val="autoZero"/>
        <c:auto val="1"/>
        <c:lblAlgn val="ctr"/>
        <c:lblOffset val="100"/>
        <c:noMultiLvlLbl val="0"/>
      </c:catAx>
      <c:valAx>
        <c:axId val="26349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17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FA8-8114-440A-A456-322E3664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E6B-15EE-4BFE-BB7A-4D3A0D2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D0D-EE2D-486F-BCED-FF7D97B4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EB6-238E-48F6-AD0E-AE1579FA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1CC-C32F-457E-B83A-636D7ED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B7D-8A8F-4862-A745-CF8BAFE0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480-93FE-4B5D-814E-4F0580B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1E3-9C33-4F3D-A313-41BEF10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100-C6D9-4459-AD24-51BB25E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DB1-93B4-48C5-A52D-D412EC0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401-131C-4763-8613-158D59D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370-A40F-4499-9A4A-1D1C01B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A21E1-23F7-4D23-9202-C4D5925D7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