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37788"/>
        <c:axId val="63140536"/>
      </c:barChart>
      <c:catAx>
        <c:axId val="23837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40536"/>
        <c:crosses val="autoZero"/>
        <c:auto val="1"/>
        <c:lblAlgn val="ctr"/>
        <c:lblOffset val="100"/>
        <c:noMultiLvlLbl val="0"/>
      </c:catAx>
      <c:valAx>
        <c:axId val="63140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37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D25-6F8E-425C-A46F-098C6024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85F-FA7A-4B9A-90D5-B2D36638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3D5-73D6-4876-8639-46F56855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7F7-A61D-4D7E-A25B-84E8D4FF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1E9-C6B2-4088-8497-E4E542BC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DA7-7D03-4D00-AA67-05F0EE13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A10-178F-40A6-AA89-ED8A3A36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E16-D544-4108-9CBA-4D7AA0FA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A3F-B335-4EE6-9299-73A7A4A3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41B-25F5-4910-A6F3-64B47B5C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A54-1F55-4F94-A665-8B55F6BA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5A4-8C7D-4326-945D-3A123E52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A61FD-1129-42D2-B81E-8D07B3A7F2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