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45034"/>
        <c:axId val="79812468"/>
      </c:barChart>
      <c:catAx>
        <c:axId val="39745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12468"/>
        <c:crosses val="autoZero"/>
        <c:auto val="1"/>
        <c:lblAlgn val="ctr"/>
        <c:lblOffset val="100"/>
        <c:noMultiLvlLbl val="0"/>
      </c:catAx>
      <c:valAx>
        <c:axId val="79812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45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D3A-F596-46DF-84DD-EFDF010F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653-6210-4077-9BAE-34063CC4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5C3-1395-4F7A-A8B6-0A5E0C8E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A05-8851-44FD-8A47-38147C37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8DF-E514-4D87-ADE5-705AA7B2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888-D5C2-4072-9247-13497600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98B-0BDA-451B-A3CF-A3BFB469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EE6-CCEB-4EBB-8361-A99F136D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AD1-2615-41B5-BB84-01639BA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F0B-4D7C-4F6A-925D-DF61A4C3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E03-A958-4B17-84F4-3737A2EC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B40-410C-427A-84D1-9456E5A3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530E6-F9C4-4FC8-B728-573ED6CF8C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