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56560"/>
        <c:axId val="53093678"/>
      </c:barChart>
      <c:catAx>
        <c:axId val="49456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3678"/>
        <c:crosses val="autoZero"/>
        <c:auto val="1"/>
        <c:lblAlgn val="ctr"/>
        <c:lblOffset val="100"/>
        <c:noMultiLvlLbl val="0"/>
      </c:catAx>
      <c:valAx>
        <c:axId val="53093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56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69F-2316-4550-A046-4A6BC69E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D1A-BE2F-4F04-AE6A-86327DE3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7BC-552F-4D38-BE50-60EAA481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63C-28E2-4496-B3BC-198DD1DD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320-2653-47A9-890C-3A0CE5F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613-CE71-4146-B4E4-F1FBDB74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F1D-C6B8-472B-B935-09F938C8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916-46EA-4171-9515-148BE47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20F-163A-41F1-B044-6AA99CA5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01D-7080-4FB2-A4B0-300B1C3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428-7CB5-4155-AF9F-FB47D28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086-73CF-4ADF-8137-EBA6217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259E-7651-4EA7-818B-EDADCE662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