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3844"/>
        <c:axId val="85247865"/>
      </c:barChart>
      <c:catAx>
        <c:axId val="5483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47865"/>
        <c:crosses val="autoZero"/>
        <c:auto val="1"/>
        <c:lblAlgn val="ctr"/>
        <c:lblOffset val="100"/>
        <c:noMultiLvlLbl val="0"/>
      </c:catAx>
      <c:valAx>
        <c:axId val="85247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07D-6320-4097-B5A1-E5FF3383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3D6-86B0-4345-8512-7A7AAFCF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CB3-9672-4C3B-A043-F1610822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E76-2288-4079-86EC-CF7983EF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447-2E41-45CA-BD28-AA747E34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701-6036-48E9-87C2-07C35C4F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B16-31D4-45D5-95F5-FB90AE7A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5AE-0B86-4FE1-9690-6B156332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471-1B22-4AE1-9611-29616ABF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BC3-55F7-4836-AE14-B10EB6F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48F-7B2D-45C1-A574-73977210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163-F332-4B33-9AC9-BF519597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35154-3126-45BC-903F-DE4A2AB138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