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16220"/>
        <c:axId val="64573378"/>
      </c:barChart>
      <c:catAx>
        <c:axId val="80016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73378"/>
        <c:crosses val="autoZero"/>
        <c:auto val="1"/>
        <c:lblAlgn val="ctr"/>
        <c:lblOffset val="100"/>
        <c:noMultiLvlLbl val="0"/>
      </c:catAx>
      <c:valAx>
        <c:axId val="64573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16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AB8-CE99-4742-A7BF-66172A9A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35B-ECA7-429A-A4B9-27C00008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454-EB0B-4E1E-8671-1785AA78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12F-442B-44D5-A226-4CECA55E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0D4-6CA7-4552-9604-F8BBB84D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DD9-6F0E-4439-9600-9491A2F7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7AC-E132-4FE6-B5F1-A8381CE6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B17-5A3A-4025-9787-5EF66269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CA8-E585-4566-80D2-8AD00EA3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D48-C4A8-491C-AD77-F4174736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1016-ED71-44FB-BDE9-0B57903C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336-9AC4-48BB-A531-E313A26E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D2C2E-0EB3-47E8-BABE-F79AC2B69E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