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00405"/>
        <c:axId val="86781607"/>
      </c:barChart>
      <c:catAx>
        <c:axId val="7800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781607"/>
        <c:crosses val="autoZero"/>
        <c:auto val="1"/>
        <c:lblAlgn val="ctr"/>
        <c:lblOffset val="100"/>
        <c:noMultiLvlLbl val="0"/>
      </c:catAx>
      <c:valAx>
        <c:axId val="867816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0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0F2C-6925-4ED1-813C-B36FE336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58B-030E-483D-9DD1-5EFC7179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0B3E-D1C3-44F4-B3FC-4208326C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E8D-E6E4-4C50-9680-5446ED60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8D18-8F48-4061-A6A3-49D707F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E43-07B3-441F-A80B-CBB62764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3C5-1E86-4C78-9705-45D9290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FF55-139C-440D-A86B-1B89DF37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A0F-652A-4DD0-9D09-B5F84B89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231B-E695-4174-AB24-6428B75C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30A6-5CEF-4FA7-B10E-83915D08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2F9-3C20-4DB7-9F1A-DF22C332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5B782-B20C-477F-ABBE-5543AF4EF9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