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55771"/>
        <c:axId val="1963048"/>
      </c:barChart>
      <c:catAx>
        <c:axId val="74055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3048"/>
        <c:crosses val="autoZero"/>
        <c:auto val="1"/>
        <c:lblAlgn val="ctr"/>
        <c:lblOffset val="100"/>
        <c:noMultiLvlLbl val="0"/>
      </c:catAx>
      <c:valAx>
        <c:axId val="1963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55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A44-9F54-431C-9B58-86553EE2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CDF-85C7-4B27-9FBD-82D0338F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56D-58DB-4865-BE39-217A61A8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6B1-1248-4753-8020-CFD3AB65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29F-A8A0-4331-A574-22AD53BA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94D-12EA-4524-A1FC-5CE60B9B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B6E-7AA6-456B-8015-ADCD6045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A91-7F41-4E2B-AF7B-F254C866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F2FE-1840-401D-BA7C-00942683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89F-6A23-4ED6-936B-D3B41F87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CB9-4DE5-44CF-8E2A-D5A6B38D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4F11-7501-4CDE-8E32-BBA77327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82100-CFB8-4FD0-A966-FFEA6EDC38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