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42482"/>
        <c:axId val="8556209"/>
      </c:barChart>
      <c:catAx>
        <c:axId val="85842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6209"/>
        <c:crosses val="autoZero"/>
        <c:auto val="1"/>
        <c:lblAlgn val="ctr"/>
        <c:lblOffset val="100"/>
        <c:noMultiLvlLbl val="0"/>
      </c:catAx>
      <c:valAx>
        <c:axId val="8556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42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FCB-1F08-43E9-B012-8809A54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8B6-3010-479A-8333-43A937DD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C21-99EC-4212-83C1-E9CF9332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FF-0DEC-4BF5-A3A3-D36E4510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9AB-B57F-4F94-9D60-EF08D77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5F1-7010-4811-91C9-6C9C8F51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E15-170B-4DF5-9C6B-374B195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7C9-4D30-47A1-9875-17DB564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7B9-29A2-4CC3-B268-EFD0237B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63F-2FB2-4841-9281-6F46593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307-ACFB-40AE-9957-D67B927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C3E-C4B6-4B5E-A55B-439D911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461DB-94CB-4D4F-B505-6ECFB81E2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